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3072"/>
        <c:axId val="17684830"/>
      </c:barChart>
      <c:catAx>
        <c:axId val="3313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84830"/>
        <c:crosses val="autoZero"/>
        <c:auto val="1"/>
        <c:lblAlgn val="ctr"/>
        <c:lblOffset val="100"/>
        <c:noMultiLvlLbl val="0"/>
      </c:catAx>
      <c:valAx>
        <c:axId val="17684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3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E18-38C5-4B8C-A711-6F8DD578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FF0-87C7-40A5-856C-0F5D8925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29A-3E41-4F5F-B261-5EC3B4E8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450-8F76-4EF8-A868-E257559E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0EE-9F6A-4BC0-A2B6-13C88C96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F2E-2704-42AA-82AF-79796A51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8F4-4886-440E-A0EC-A5D95DF5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743-6741-4C00-A2C9-291B4D90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035-8B7B-40D9-B271-ED03F849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B94-846C-40D0-B33F-1320B652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679-64BF-43BD-9032-3BABF95C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F5B-6F54-4E9A-9CC3-F0CA96C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86A38-CE93-4E5E-B627-094B213E18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