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8412"/>
        <c:axId val="75299433"/>
      </c:barChart>
      <c:catAx>
        <c:axId val="7248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99433"/>
        <c:crosses val="autoZero"/>
        <c:auto val="1"/>
        <c:lblAlgn val="ctr"/>
        <c:lblOffset val="100"/>
        <c:noMultiLvlLbl val="0"/>
      </c:catAx>
      <c:valAx>
        <c:axId val="75299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8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486-BDF3-4B73-8ABD-0F350AFE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915-E941-4534-A9A6-0DFDA7FB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D03-A05C-46F5-B30F-CBF09720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4CC-DFBA-41D8-AF70-9299BD9B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BE6-6FC6-4910-8107-3E33C973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1DF-469D-4005-9350-869558E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D2D-C48B-4D67-A662-0C434B48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47E-4735-46E2-AAF7-0333294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52F-1F1C-440D-9A8E-4A9B6EEB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809-23E2-4518-BC86-35E7D4D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B30-AE21-441E-87BE-AF5287E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3A6-D0C2-4345-AD66-791ADA39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2B562-19F2-4BF1-BFEE-F77BC78A78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