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90504"/>
        <c:axId val="68610146"/>
      </c:barChart>
      <c:catAx>
        <c:axId val="13190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10146"/>
        <c:crosses val="autoZero"/>
        <c:auto val="1"/>
        <c:lblAlgn val="ctr"/>
        <c:lblOffset val="100"/>
        <c:noMultiLvlLbl val="0"/>
      </c:catAx>
      <c:valAx>
        <c:axId val="68610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90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DC4C-8C03-4C99-80FF-8FC7E536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C932-B3AF-4739-B868-4FFD1F7A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5E3-86B9-4115-B1CA-B349BD36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7AE8-7BFA-4868-B0CD-4EEE13C5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66F-2B3A-43B6-BE50-6C687EFB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15F-8834-44EF-AC0C-1C8FB5D4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412-21F7-40D5-BFEF-F4141C2A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B8E-25EE-40F3-BE76-789F6E7D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B57E-9DBA-4D13-BEFC-43032FB9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10B4-7DD4-425D-89CC-E535773E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247-C1A7-4B52-B63F-132F71C4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275-F6AF-4FA6-AD74-03C138DA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1E397-A492-4180-9E4B-280E10DE89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