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56508"/>
        <c:axId val="21151647"/>
      </c:barChart>
      <c:catAx>
        <c:axId val="93656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1647"/>
        <c:crosses val="autoZero"/>
        <c:auto val="1"/>
        <c:lblAlgn val="ctr"/>
        <c:lblOffset val="100"/>
        <c:noMultiLvlLbl val="0"/>
      </c:catAx>
      <c:valAx>
        <c:axId val="21151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6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EB3-C2C8-415C-B879-92E06C9E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6AB-049C-4853-87DC-B4BE88A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556D-08BA-42FC-BD83-2460066D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48D-E50C-45E0-9C81-BD275E56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21F-F21E-4473-899A-0D27A35D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B00-C5EF-41A6-9D0F-91947B8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334-8564-4748-833C-CB67108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C66-9AE6-41CB-9E99-375C0FDC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EB7-0140-4ABA-BEE5-4E5F47D3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E64-2F8C-4D5F-8511-0A655EB4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CA6-8F33-4FA6-BE3E-717F7C34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F05-F85D-4A68-80AA-27701C8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51371-832B-44CF-9503-E62ADAFB40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