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7C3F-1302-4DB1-ABE8-1AAC97D0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F547-F712-48A0-80ED-C81B3DB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157B2-A948-4A74-9451-2990DF831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97CE3-BEA0-48A2-BD98-B3CBDEDC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3F84-FA7C-426A-96E2-A91D461F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C2960-BCA2-463C-BA96-380EEFBB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75031-1CD5-42BD-80B1-45C237FF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99C0B-A9B1-4CBC-B5B5-7964A841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FCA86-88BF-46FE-911F-006D1F35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231EE-AC85-44E6-8BE6-95F2D6792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D00FD-FCE4-4647-B53E-360A8210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91D3C57-4AA5-469D-A1B1-85269B03F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58E-DAF0-4EB5-8570-029971974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DC4EBC-7E42-4E77-86F7-ACFB8CD1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C7161A6-119C-4591-9F63-706C8C30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2090696-4D39-41B7-B571-1B1926DB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7EFAD8-7AE5-41F1-8D15-259644A25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5C70C2-F71E-45DD-9E3B-20242DEC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9268CB-B5BE-4EC5-A392-0FD18A7E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5996A5-562B-4A80-84C4-CD8DB2D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9A5E43-803D-4332-A12B-BC5D7C43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C6AF9A-BB16-49C0-B8BB-8323251C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5D97F5-70D6-4EFC-AD9D-A46CA8D5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8820-945D-4EC9-9E08-774FF764D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06ECA0-9658-41D4-B59B-10ACDDF6D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0C5FD-88DC-444C-8C7D-2B35F49D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3A205-710A-446F-AFF6-1EC8CFA0E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DD8D6-AE93-44D6-ACC8-98CAFFF1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F49A8-A6D1-4C2D-A135-67D625B4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F7FC3-42EB-4BD6-B329-D9E31960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C1698-7390-4DA7-8C46-C74722AD4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65176-AB21-4CC1-9AF6-4E659E26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B51EC-534A-4A6A-B6B7-F49B916A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0323E-1CAC-4077-A311-F2034CC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6F90-C429-499B-AFAE-A363F239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16D18-6D6D-4A51-A89C-297DE3F0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D9A44-691C-4AFF-BFC9-31F460CB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19E41-6BDF-46B7-8D73-A32DA5A88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BCDEB-C744-4AEF-BC1D-CD457502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72E748-0054-49E2-B72F-814CDD1C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F388E-493F-4BC8-B107-A2BBBD4C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F9847-A609-4FF1-9261-00C81B9D2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5B498-8707-4DA7-A8BC-7F0BDE8D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2BDD0-C95E-4447-B8D2-521BFCD7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6CA1E-6217-4AEE-B632-DD6E5CEE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0C6D-EC24-491C-B597-83BA791E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A71ED8-AEDE-4F66-BE5A-97534B46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D4369-BF92-4136-809F-6371EC01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F9288-35C5-46DD-B83C-AA9BCE14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03A73-B03A-428B-B0C9-45F512321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2DAA7-3DFF-48E0-B7D8-77440230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1884-03A9-4991-80A4-2EA3E622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464F-B8FD-4F10-ABC8-75897B91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D0A72-486A-4E8E-9CB6-408E5DAE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90C6-0E6F-4A85-AF8C-9FE10E38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1C44-944F-43F4-AAEE-E0C0FE7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9CA-34E4-4996-9574-F5C5173C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FA29-B0AE-4D74-89EE-486223765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9331-4B73-4CCE-AEB1-6D03622E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1BFC-8DB9-4758-9512-8ADA6848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EBAA-74E6-4AEF-B50D-54F19410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3489-9E92-4444-BD5C-FF76C046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1DDA-ABFB-4E58-9E17-EF24C35B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04245-9A24-4B38-AE6F-AF364FE7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BCA0-4D2B-4FAC-BFBF-2586946C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563D-B918-4BDA-B747-4003B6DA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882A-6058-4029-A4BF-CD65BF6B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F715-CB92-4041-841B-AA62DB67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21F8-940D-4741-9782-B2A384C7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B5F6A-EB7A-455C-B590-5B1D84EC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CB255-E6FA-4DF6-B128-8E974A29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B6821-E0C7-4B37-945E-88DFCD0B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CFD08-7606-4A85-9F76-5125A401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F63F7-25C2-489A-9C2C-AC2F19E88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C13F1-ECAD-4FB5-A58D-80509FF86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E27FF-6B85-4EC6-AB5B-157E7D9D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755C9-B51E-4D6C-A12B-CD510C0A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A6B07-3FDF-4050-A378-FCB865D95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7239-757A-4818-B880-BC941976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2B143-040E-454B-8E27-CCC60619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0D9FD-3359-4D9B-985B-581DB6E1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7604-CD76-4EE0-B430-2971A13C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11D9D-99EE-4792-9F31-C3671DB3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1DBA8A-EF59-4F00-892D-61188039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C82D-E3F7-4FFA-8CBE-23A75F4D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EEAE7-CA08-4A63-8683-CE9CDEAB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67643-BA29-4201-BD2C-2B66346E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AB676-8C3E-4C77-9581-D6053AE1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89AAA5-EA5E-4D01-B1D0-A1269E809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AB46-D93B-4A9B-9581-341B98FD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04B413-5EC2-494C-93EC-04DEA1C2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EBF9E1-7BCB-477C-A525-A5ABD3FD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D8E1C2-BA1C-4DC0-9E91-49068930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F0B4A5-7A68-4DB1-93F4-E16925F8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7FC88-1C34-4248-9918-41F5D710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8BFFFE-D09D-4923-9865-8F98D7E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0127AE-4AF3-40E2-B611-7E523DB7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E07E47-F649-4B0D-A5F3-5E812471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15D34-6DC4-4BCB-85EB-3CCCA5D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2D237-5C30-46EC-B4A7-07F990D5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8F9F-1463-47DE-A0B4-656C5C2A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1841A-DE69-4031-B5AF-881F4108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8E621-F40F-4137-87EB-C94723E3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F0CA-9F66-4EA9-87BC-1990605A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8E67B-DEA1-40CB-95AB-94702D9A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993F2-8E9C-41ED-A257-C6644030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0D256-29F2-4456-8D41-3A5E96A4A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4DDA-1CB7-4D6B-8304-A774463A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5B66-7CFE-44D6-B141-32F8A054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68108-CD98-483F-99BB-9FFFF1BC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4E49E-A77D-4731-86FF-318FE8CE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78B-8E29-4B5F-A869-993DCE6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CD4C-50EB-4B30-A38B-F6B2CFCF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3EBC1-9E94-4298-B60F-6CEADF94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3518A-7C51-4FDB-B617-76F66CC3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EADAA-3188-4870-A3DC-41FB1D44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3B04A-B40B-4C86-8A36-8BFFBC17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53012-7F01-4F0E-B6E5-9B8CA873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2C3CD-5449-498E-A331-64E6B186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A9D3E-0EB2-4F44-B6D3-55709AE4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4C6DE-EA26-483A-9738-3AB445D9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C9AB7-73E6-4214-A668-C835EB44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4A4-9688-45BD-A42A-DCF27958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41F40-F41C-4DE2-91CD-E9977ED3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30815-BEFC-4178-AFBD-E3D337F8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67C45-B5F6-44C1-804E-E8148585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91176-BFF2-4634-988B-AF0C6034E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63173-6020-4FAC-A1BD-13232DBE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E9612-1268-4CD9-BFAB-309511AE8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EC976-4707-4008-8FC1-28350CA1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1ED38-5316-478A-ACD2-6105E5DB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E1228-E45D-4EEE-93FD-54FEA1AF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D659-153C-4C4E-AC61-AE6C9712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E12-9A90-4C08-A577-842E2CCF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8C092-0A9F-46F3-B4E0-ED7B044D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9D004-193C-45BA-B803-B602F813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25506-5B19-43B0-BA8A-7E646B1A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2AC2E-8D96-4C8F-AE7C-5F384611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101D2-22C5-4F3C-9A54-EB94A91E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789D9-85E9-4916-8392-48191571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50453-12C4-4234-91D2-D7F23EC2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1C294-B491-4E81-BEA7-2D09F8B7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6864B-B794-40EE-8EA7-96B252F4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3822F-68C9-4668-BB14-A31233A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7D7F-8652-451A-953D-10BB3CA8833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FDA3-5B5A-4B77-BE0B-7072FB084F6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054F-0F1A-4959-8D7C-47C74023BC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8D5B-F11F-454A-BD31-994E2718A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28D0-C902-4F69-A27F-BDA8ED43850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A0DC-DA37-4D93-9B70-6884540716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B9BF-EC60-49CE-AF94-D9D7FC35525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27E6-85DB-4D87-BE6F-2A78C487F57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D13-34CD-4B48-9B37-56EC4B9D169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E201-E774-4A06-894D-31843419C8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852E-2B65-46C4-8138-713EABF3333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E667-4A1B-44B9-A8BD-5586E3039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DC49-49C6-4E73-B2E5-643E427741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2742-53E7-49FC-B291-8E3DBA524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DE8F-E78B-400A-8B09-BA2CADBB59E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8779-5D0C-4690-8CDF-21FC6B5A0B7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665D-0045-4D79-B031-D1D01D785E10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7283-675F-4AEA-BC91-3A069082159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FB42-4E5D-4468-804B-BA8219466F2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B957-69D2-483A-B884-A0094E66D4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DF1C-178E-4DC9-B4FB-3CDD981800B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89E2-43B5-436B-8733-EA5CD0AD79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B735-94CE-4507-B9D9-BE32844CCD1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B227-E241-4A14-B51C-EBD0EE3F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1CD6-4E28-4725-93FB-E0788289D5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63E69-5ECD-4D94-B479-68AB55B4E19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0308A-91E6-4F93-B200-26AEE6F533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BE90117-F255-46C5-81FC-25619D608028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419BF-F8FC-4925-AF8B-F0BC7A79B29E}" type="slidenum">
              <a:t>3</a:t>
            </a:fld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93AD71-ABC4-4B30-A6F9-AA69B7A20370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8DB1715-CEE8-4544-94C7-AEEE44C6C694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6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5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EB074-9111-41B1-99DD-EE6127C917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174164FA-B43A-4D64-B2AE-34339277EE6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65979-FED5-4DBB-A9F7-3E635FF038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4EE616E-AD48-49E9-BDB9-5E49DA677B66}" type="datetime1">
              <a:rPr lang="en-US"/>
              <a:t>07/28/26</a:t>
            </a:fld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9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