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7EEB9-4FF5-4BEA-9E16-29375C4B2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3E448-1802-41D0-84F4-E66B9593B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15EAF-90DB-4205-82F4-5ADB4BB15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AD992-3821-47FB-AB73-44C3407DE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9A5EB-5920-45A2-9529-39E4052B6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8C311-A22D-43C1-BCE4-4BBA26730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93EAE-9B6C-48C7-8FAE-03A1216DB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3F843-F393-4B50-8BCA-33E2A74AE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2E766-6408-4A89-A707-882F3D708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1D325-3C9B-47A0-90EF-43FC8C360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3B24A-F7DE-401A-9F8C-81C4E74F5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D36DB-85D0-4377-9C60-1D48C7EB4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CAFDD-2B4E-4205-9E84-749D54F26B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7120" y="1400040"/>
          <a:ext cx="6087960" cy="405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7120" y="1400040"/>
                    <a:ext cx="608796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4:23Z</dcterms:created>
  <dc:creator>Oliver Craemer</dc:creator>
  <dc:description/>
  <dc:language>en-US</dc:language>
  <cp:lastModifiedBy>Oliver Craemer</cp:lastModifiedBy>
  <dcterms:modified xsi:type="dcterms:W3CDTF">2005-01-06T09:24:29Z</dcterms:modified>
  <cp:revision>1</cp:revision>
  <dc:subject/>
  <dc:title>Slide 1</dc:title>
</cp:coreProperties>
</file>