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3A69-3EDA-4AB0-874C-F6EF93F4E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E4E5-201E-4C2C-8FC3-2020F1DCD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18254F-7947-4885-BDDF-B332FFBEE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580ACE-C797-412B-BE75-7D9D4FDE8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0FF3F5-FFB6-4B36-BD07-B28699B44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D8C13D-1986-4E5B-9BC7-4C5BB6CA6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F5D0D5-4931-47F1-AF93-1579CE981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E1CD74-8049-4631-8AA8-4BA9AB1AE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84D2EE-4316-4613-BC0D-D3F3DD3CB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E1E475-A468-4A8F-A932-658BEF60B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A20A56-3ADA-4510-8048-C1D908316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521863B-5C26-4E5E-8801-69E23FDE3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D661-24E2-4F0D-A6C7-BEB2401A4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CD44ECB-A041-4105-A8D9-58519313A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C46C3FD-C640-49F8-94B0-63CA76625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4287D7D-F666-4AAA-9725-E2807A562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167A251-A1D0-4A99-B3FA-70592B955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92AE828-4E62-49A7-98A9-73014DB25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23C3B35-EEBB-4374-B572-4C2FD4A6A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AE6E9CC-03BC-4CF7-B57E-FEBD0303A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777EB10-4BDB-4C11-A7A6-B22A0C03B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C1B193B-559E-4451-8A25-63E1E8246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A65BA0A-FFC9-439C-BAF4-5557EB718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166E-EB50-4D21-BFEC-438D7CF45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D053FB7-076D-4A6A-870D-649A4EA11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58005E-A65C-44AE-A872-63C907C1D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AB14E2-7F15-41AA-84EA-52E10F10C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2BA422-3289-44E2-8B63-979049409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C1B4F5-C8F8-4560-98BD-6C5A584BB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B75C94-60FC-4A6A-B5E3-7955B5FFC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DCBC55-6B01-432E-B327-9ABEC7B9D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C2E5CA-DE2B-4B78-AD7F-AC50CDB8F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E6BB43-A9B5-450B-954A-8AB8B87FB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CD2F2E-42F0-46A4-B340-AC2363CA4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504BD-A3F3-49E2-AC8A-4B54746D2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CD33CA-1B27-4A6A-8986-4318877CD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3B46E9-3E71-4420-A34B-1B78F07C2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CB52E6-B7AD-46F2-B392-889D9A84B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51D2DD-2C17-43B1-8145-2484A9608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AB81D4-644D-4A99-A855-9BCDB67E2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0176BE-D8B8-4C00-AF93-B3FEDECF0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66FCD0-3373-4A54-AF3D-2FBCC4BDE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C27146-B9A4-4F42-A807-8E3D4110C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6689CF-E67A-4C22-A7B9-C22EB1056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17FDDF-215A-4800-A8BD-3CCFF6836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49629-069C-4CDF-BC8E-3266690AD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500B00-8F0A-482A-BFF1-60D74F63D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81DDCA-F07D-48EF-862A-29FF11E5E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C8F306-D3DC-45EC-904F-BD9CF8727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884B6B-8662-4D47-94F4-D4D83D872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33EB58-C69F-46E5-8392-A4222994F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2E67E-E47F-4CDF-AA8F-10E4642F4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53232-5575-4A0A-AECB-64D0CE688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F0FCB-80E4-4307-A15E-3231C00BC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C4016-7AA8-4DAC-8AD4-EB729F8BD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72985-F2F9-4FE3-8510-BA58F3CA1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E9BF-9667-47C6-A920-640D161CF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6F573-0E0E-44EA-AC66-DA8236D78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72B64-A482-402D-92E5-15CEB0215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9A054-6A36-4149-8350-02614C741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B4958-53D4-469C-8B03-D6EF81A4E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5AFEF-28B1-4D35-92C3-5DE0B5A0E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C31137-2180-4180-907E-DB9C3BC50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9EBC63-FA3F-44D3-AAF7-F2EAAF7A8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4F89A3-2A72-4B68-8A74-B53152045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350CD4-8E75-4564-BC64-69DD6B593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3248C4-15C9-414F-BA00-E7F1BA81B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B08E-1752-4FC7-A81B-370796744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A27B88-63AA-4A38-97C0-0A8DA452C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9E9437-4BA7-4C5B-B5CA-1E2C962FF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44A918-7D48-40B4-BABB-625E4A6C7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2468FE-4C31-4DA3-B073-6278143CD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09DCC2-B0D2-4AF6-9227-55903A276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B4F43B-8BD7-4782-81B3-CCFD2772F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AF3DAE-DBF5-440C-8DD7-AE8706290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CA8A30-6D3E-4932-B9FB-59476F35F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E46760-7861-4A5E-B19A-CEDD28DC4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AC5BB8-FA75-4F59-B6DC-E32F37A7D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9323-EA25-40C0-88D2-71953A03A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3CA612-DED1-4651-AC7E-3DB4535B5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C5CFFA-BABC-4759-BE7D-2DFC45A21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1E8BD9-7ACC-4D64-8D3E-8F7C4E541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278E76-AE50-40A7-8687-B60F4FEFB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6BD734-5279-44A4-9394-66FF45F73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5942DD-0D1B-4853-BCC8-0A12C5BA6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FE3DDA-A8C5-476B-B987-215D2D05A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FD7C4F-3B54-42AF-BDAC-887BFC467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04B13E-D3C3-46B9-89C3-C5B6CF39B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5159E8-00DF-4A7A-982C-BFD21EA3A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E620-56BE-41A1-BCF5-C3CE028D8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A885F1-1627-4D68-9883-E27C0324C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1AA2FD-6796-49BE-9BEC-B25391BC4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CA9541-AF70-48A2-9B57-6C96EA479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B58CD6-15F7-4637-939D-752E2A3B1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D33CFD-2B7E-4D9D-935B-0749199C1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E4747C-1BC1-4C30-96AB-66A2ACF3D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667D1F-BE97-4B6D-93E9-3027AE3DF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0356D7-94AD-4BBE-83C5-6C0161E1E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6144E8B-6094-41BA-BD90-C6BFC84B5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B00E22-7253-482B-97A9-B76FC7A7E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808D-03E2-45FF-B3A7-C711F45EE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6E44EB-CF20-4988-9CDC-A24374A5B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2A57F0-63F5-4071-956D-6968CA223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FD19B7-3378-4312-AC23-383C7901B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4D0B71-0604-45AA-A190-446B7254A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B195F1-7132-4BB7-A6F1-107979D17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B9ACD6-A5FA-4BEC-BCAB-A72DCB6C1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D30183-DFFC-4281-8DAE-023BEA832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580C94-3B9F-49A4-869B-08F09FA6E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ABB215-4BB4-443A-9E7F-EF0B35BF4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B32387-C7F3-4613-B742-945042955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CD94-6D4F-4310-AF6E-A93C0CA71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862E80-2589-46E7-8E93-6C34BE5DB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D2974C-5108-482B-BB4F-717707B50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DAD7D2-3A1C-4A87-8DF2-E3BA3DE25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1AC7FE-5D6F-472F-AB3F-379263129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54F3C2-8C51-4D7F-B977-CAD3F8035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432320-B9DE-449D-BB24-461F7CAAF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C974A3-267F-4D2D-977E-24D631FE4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1180A7-A927-4EAE-A247-084F2D67A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687119-893D-4597-9D3E-78AF363C3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600828-A027-4E80-97A4-11E0EFB15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2DC2-6DF9-40A8-90AB-9DA1C2C4F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197D22-AEA4-4A67-BF48-39FB2EF28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DF1CA5-1B81-46C4-81FF-7FDB56E64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126F1B-8469-489B-9D8D-29114A453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951F99-2F9B-4230-87CE-B28F14D29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4EC563-6670-4D01-823C-0B296A0C0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9591D5-2FE7-4583-BABB-052A572C4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5D29F1-F9B6-476F-8AF2-96E8B9401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80CF74-0A84-4CBA-9767-DEEAD317D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3F9035-7E31-4C3B-867D-38995B52D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41E721-63C7-439B-B6A7-841CA7ED0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ACBA-5B0C-4763-B821-F0A2EBA4A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D27C0C-A5E7-494E-AB9D-644725CB2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5065B2-A9D7-4E23-8FF5-FAB4CD910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2EF04C-91D8-4A86-A6E5-29BCCD551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5DAA57-6060-4E9A-B191-B8F1B0814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747288-8E0F-4452-9D3B-1E2030291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2B27E0-E618-4E19-A88B-5E940E3DD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4424CD-A086-4C11-8D8B-033215527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6D016A-155C-430E-A305-6EC4516BF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737F44-D4C4-4F42-8CFB-97474F9AB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7E0146-8BBE-41E1-AA60-CF0398512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5CCF9-1184-4D11-A658-DAE627C070BF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DFCB8-5FA2-4C83-94BE-956DFD405F2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7BCC8-BB45-4497-8E67-6E3653DF4F16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A77C6-E4AB-40A2-B98B-944CA7130B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02052-C534-4208-96D4-34AF7EE2062C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BA912-2A69-46E1-8A3C-7AEC9493920D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9A3A4-F190-43F0-B8F4-48B3ABCAEC29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D37E8-9D01-403F-B2B5-5B5AFB26272D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FB066-022B-4D95-917E-87AAA605F0F6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6CD60-17DC-4E74-909B-6C53B90A203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F1AE8-C3E8-4526-B532-414604F4BC6B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BE473-66F9-4403-A171-BCCCCB2EFC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812F3-E9D7-4607-8382-97FED9F6DBCF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AEFC1-0821-4684-860F-2D3588E5DE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D6CDD-44F7-44B6-A30B-80D6247B0AFB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57958-6FB2-4DEA-8B62-526B4C2923D9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164D6-C213-4ECA-9DF6-6F12D3F500D7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74017-133F-4F23-961A-6D79CE766862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AD16B-F525-461F-85B2-912DB4F9748A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DBF58-7427-453B-BE01-A76B56CCDB0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2F6C3-DD92-40D4-A653-B7C9BC473F76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C4815-DF55-4746-BFF8-B0122C0A970F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21606-B407-4A70-90B0-75B4E9F25D67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37186-983F-423D-89B4-2D5CA2C7C1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9721-AA43-44A2-8010-D11F234CDC9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F87A49-CC71-4A88-A253-E8977A630503}" type="datetime1">
              <a:rPr lang="en-US"/>
              <a:t>07/28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5AF0FC-D0DF-4693-8575-BF3CEDB5A3B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7E9156F8-D9EA-40A7-86A6-FE38B245E967}" type="datetime1">
              <a:rPr lang="en-US"/>
              <a:t>07/28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" dur="770" fill="hold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115" dur="1230" fill="hold"/>
                                        <p:tgtEl>
                                          <p:spTgt spid="1197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116" dur="123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117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118" dur="123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119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randombar(vertical)" transition="out">
                                      <p:cBhvr additive="repl">
                                        <p:cTn id="123" dur="5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7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6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8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84C9FE-FD3B-4FCB-951D-04F0ED301C78}" type="slidenum">
              <a:t>3</a:t>
            </a:fld>
          </a:p>
        </p:txBody>
      </p:sp>
    </p:spTree>
  </p:cSld>
  <p:transition>
    <p:comb dir="horz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000"/>
                            </p:stCondLst>
                            <p:childTnLst>
                              <p:par>
                                <p:cTn id="17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3000"/>
                            </p:stCondLst>
                            <p:childTnLst>
                              <p:par>
                                <p:cTn id="18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4000"/>
                            </p:stCondLst>
                            <p:childTnLst>
                              <p:par>
                                <p:cTn id="19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000"/>
                            </p:stCondLst>
                            <p:childTnLst>
                              <p:par>
                                <p:cTn id="19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F6497E-6355-4405-BE9B-31B1D596E323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4A5578EB-B763-4783-9D4D-0F16A4A1D83D}" type="datetime1">
              <a:rPr lang="en-US"/>
              <a:t>07/28/26</a:t>
            </a:fld>
          </a:p>
        </p:txBody>
      </p:sp>
    </p:spTree>
  </p:cSld>
  <p:transition>
    <p:wedge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2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000"/>
                            </p:stCondLst>
                            <p:childTnLst>
                              <p:par>
                                <p:cTn id="21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6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4000"/>
                            </p:stCondLst>
                            <p:childTnLst>
                              <p:par>
                                <p:cTn id="2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0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6000"/>
                            </p:stCondLst>
                            <p:childTnLst>
                              <p:par>
                                <p:cTn id="22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4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8000"/>
                            </p:stCondLst>
                            <p:childTnLst>
                              <p:par>
                                <p:cTn id="22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8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0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1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2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5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6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7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5000"/>
                            </p:stCondLst>
                            <p:childTnLst>
                              <p:par>
                                <p:cTn id="2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E2B5E3-4E99-450A-81A2-5E940021978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D7765856-79D1-402B-9804-865AA526E33A}" type="datetime1">
              <a:rPr lang="en-US"/>
              <a:t>07/28/26</a:t>
            </a:fld>
          </a:p>
        </p:txBody>
      </p:sp>
    </p:spTree>
  </p:cSld>
  <p:transition>
    <p:wipe dir="d"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000"/>
                            </p:stCondLst>
                            <p:childTnLst>
                              <p:par>
                                <p:cTn id="26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2000"/>
                            </p:stCondLst>
                            <p:childTnLst>
                              <p:par>
                                <p:cTn id="27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3000"/>
                            </p:stCondLst>
                            <p:childTnLst>
                              <p:par>
                                <p:cTn id="28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4000"/>
                            </p:stCondLst>
                            <p:childTnLst>
                              <p:par>
                                <p:cTn id="28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000"/>
                            </p:stCondLst>
                            <p:childTnLst>
                              <p:par>
                                <p:cTn id="29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000"/>
                            </p:stCondLst>
                            <p:childTnLst>
                              <p:par>
                                <p:cTn id="30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7000"/>
                            </p:stCondLst>
                            <p:childTnLst>
                              <p:par>
                                <p:cTn id="31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8000"/>
                            </p:stCondLst>
                            <p:childTnLst>
                              <p:par>
                                <p:cTn id="31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9000"/>
                            </p:stCondLst>
                            <p:childTnLst>
                              <p:par>
                                <p:cTn id="32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3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2000"/>
                            </p:stCondLst>
                            <p:childTnLst>
                              <p:par>
                                <p:cTn id="34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3000"/>
                            </p:stCondLst>
                            <p:childTnLst>
                              <p:par>
                                <p:cTn id="35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1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3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6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8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1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3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6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8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1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3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6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8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1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3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6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8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1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3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6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8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1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3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6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8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1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3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6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8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1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3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574121-C179-4A9F-BFED-D852D371B8E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2EC15CE0-E343-45BD-B9CB-F510912378B2}" type="datetime1">
              <a:rPr lang="en-US"/>
              <a:t>07/28/26</a:t>
            </a:fld>
          </a:p>
        </p:txBody>
      </p:sp>
    </p:spTree>
  </p:cSld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0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0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3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5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8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9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2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64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7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68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