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00087"/>
        <c:axId val="86264444"/>
      </c:barChart>
      <c:catAx>
        <c:axId val="6270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64444"/>
        <c:crosses val="autoZero"/>
        <c:auto val="1"/>
        <c:lblAlgn val="ctr"/>
        <c:lblOffset val="100"/>
        <c:noMultiLvlLbl val="0"/>
      </c:catAx>
      <c:valAx>
        <c:axId val="86264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0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803-AC5C-450E-9FC8-6F9B5259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AC4-31E8-4E2E-AB7A-A82C568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35B9-2956-441C-B6C7-BD3A33D7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0CC4-B98E-4EC0-A494-06F2882C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DD5-0778-40AE-8CE4-D763FCB9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6B9-A240-48CD-B1CA-5F134F5A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6DB-433E-45D9-9D1F-16DC8EDA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3F6-784F-4292-B505-A913DCE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105-6D7B-4BDC-9078-A50719B9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D5D-4545-4C1B-BCDB-5F301474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F88-283D-47A7-AF02-D06ED98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78A-F21C-458E-8CC5-536D1761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E6798-955E-460A-B70F-DBFB3B1FC3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