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191459"/>
        <c:axId val="75906877"/>
      </c:barChart>
      <c:catAx>
        <c:axId val="471914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06877"/>
        <c:crosses val="autoZero"/>
        <c:auto val="1"/>
        <c:lblAlgn val="ctr"/>
        <c:lblOffset val="100"/>
        <c:noMultiLvlLbl val="0"/>
      </c:catAx>
      <c:valAx>
        <c:axId val="759068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914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EB1-93C8-45B5-823E-960E244D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9DC4-A7A6-47B1-BC78-FEE7662F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3FE7-853C-4910-906C-E4B0D5E4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87B9-2D06-4835-BD4A-8BFC916B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F1EF-3348-4D55-AF34-56C88657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E106-BCB3-4EFD-8B99-359F9196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F583-F547-473B-B283-A33B8D75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5C1D-2BCF-468B-B251-BEC9A49A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6BB6-BCB6-4ACA-B1E0-C6696950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4282-4175-4E49-A617-8769B8B2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6C56-7589-452F-AC31-676F012E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E60F-B92C-4522-B510-BD95DF19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687E4-BDE2-4B50-B9DA-C37E064A21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