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60905"/>
        <c:axId val="87947026"/>
      </c:barChart>
      <c:catAx>
        <c:axId val="133609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47026"/>
        <c:crosses val="autoZero"/>
        <c:auto val="1"/>
        <c:lblAlgn val="ctr"/>
        <c:lblOffset val="100"/>
        <c:noMultiLvlLbl val="0"/>
      </c:catAx>
      <c:valAx>
        <c:axId val="879470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609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8C56-71E2-41F9-BBA9-3E53EA0A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05E2-4DCF-4941-9FA6-8B58F89C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4AE3-3C9F-4D86-9CFE-8785B946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D237-D1DC-45BE-82E6-A7635878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BB93-61FF-47E3-83D5-F6B8C443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4909-DE34-468B-87BA-398EA58D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F6DC-FFBF-4C95-B6CE-72955198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566-4770-4C74-87F8-16D9AF29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D936-B66E-48B8-A55B-A4AB5F93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83B1-9134-4AC3-BF97-26583B4D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D8B-EF9F-42DB-B1DB-5FBE2661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EB27-05E8-4075-B357-A5649AEB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70B8D-0642-4792-97D8-F6EF559C5A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