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04948"/>
        <c:axId val="73266334"/>
      </c:barChart>
      <c:catAx>
        <c:axId val="57504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66334"/>
        <c:crosses val="autoZero"/>
        <c:auto val="1"/>
        <c:lblAlgn val="ctr"/>
        <c:lblOffset val="100"/>
        <c:noMultiLvlLbl val="0"/>
      </c:catAx>
      <c:valAx>
        <c:axId val="73266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04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90B-2691-4517-8CBD-F2A6B34B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934-DB9D-412B-A4DF-1B593E38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8CF-179D-4276-9585-D15C1329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2DF-07FE-4266-AC4D-573B25EA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13F-CFD2-4A0A-9570-274F6B11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943-B03A-4DC8-AE29-5C76926D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EBA-8CA3-47B3-99CE-A09B4891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B14-C405-4267-B007-F41B6C84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D58-B880-4B37-8201-19EEE90D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F4A-A94F-4E73-9CF8-D9E70BEC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228-9B7D-4AD1-8280-68D53321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F97-86D0-4155-8D00-A25FDDF8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A8EEC-6E7E-4B10-B541-4862E2E624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