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35189"/>
        <c:axId val="43742962"/>
      </c:barChart>
      <c:catAx>
        <c:axId val="95135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42962"/>
        <c:crosses val="autoZero"/>
        <c:auto val="1"/>
        <c:lblAlgn val="ctr"/>
        <c:lblOffset val="100"/>
        <c:noMultiLvlLbl val="0"/>
      </c:catAx>
      <c:valAx>
        <c:axId val="43742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35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F09-FDC0-48A9-BB66-53744D85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92C-B8DE-412E-8BDA-34EDB097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4DC-A561-4485-804A-C4527323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4A3-425A-4E2C-9EEA-2D5AB902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1BA-2E7C-4FB2-BC28-CA417477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D87-1498-4D9C-A0D2-BDA63D7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4BF-CF2A-43F5-873C-1F1A841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6C1-0711-4E58-96A8-D2DA4C77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605-7199-40AC-8F9D-E892E24D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44E-A700-4F48-AF9C-9438EC0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CF4-6D00-4CF3-B037-E73F00D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FF0-D5F7-4FF8-9765-E7F9747D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C35AB-D91E-438C-9126-C1F364F28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