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9435058"/>
        <c:axId val="75405998"/>
      </c:barChart>
      <c:catAx>
        <c:axId val="1943505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405998"/>
        <c:crosses val="autoZero"/>
        <c:auto val="1"/>
        <c:lblAlgn val="ctr"/>
        <c:lblOffset val="100"/>
        <c:noMultiLvlLbl val="0"/>
      </c:catAx>
      <c:valAx>
        <c:axId val="7540599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43505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62AC7-B76B-4CF6-931B-BB2B798B5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E11D6-C48A-4EF0-8F44-6813B6044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43818-8F5A-43D0-BD3E-B561B29F3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2F9F7-3B00-4C61-861B-C7EACA10D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2F24F-E2BB-4422-99A0-BDB22EEBB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4101F-F89A-4E25-B503-2BD7DD278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F0046-90FF-4D88-8C07-1626798D1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3BC98-E4A3-4297-A453-915D30CF2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E723A-A143-4FB5-B6F1-72E72DBE7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0D394-7A23-4144-AE32-9F85EBEB5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57A25-930B-4AF3-AA82-39B399493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00B7C-8EDC-45D9-AFBB-90E0BAE9A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E35D7B-5940-454F-96C8-7950F831C7D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