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33334"/>
        <c:axId val="82288752"/>
      </c:barChart>
      <c:catAx>
        <c:axId val="71333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88752"/>
        <c:crosses val="autoZero"/>
        <c:auto val="1"/>
        <c:lblAlgn val="ctr"/>
        <c:lblOffset val="100"/>
        <c:noMultiLvlLbl val="0"/>
      </c:catAx>
      <c:valAx>
        <c:axId val="822887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33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667-E854-4FFD-97FC-755FDEF7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4B93-77B3-4534-8DC7-053E3672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7EA5-BA8C-4240-A17A-53216757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1843-D6AF-4E69-8642-7E7200DA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D81-08D3-4BEE-B294-9479DF16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C482-5B54-4FE3-A103-A82628B3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C29-AA38-4F0A-9826-6FD4E7A7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5EB3-7CEC-451A-BFC1-551A4BC6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3618-448E-43E5-8816-F12ABFED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FD1-0096-4421-BF84-21DA8D5A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CBE6-075E-4F10-8306-EBDF6048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E70-E1ED-4727-9963-D2965400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4A20C-11A8-4BEA-A346-8E9D596E06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