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12250"/>
        <c:axId val="67992807"/>
      </c:barChart>
      <c:catAx>
        <c:axId val="39312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92807"/>
        <c:crosses val="autoZero"/>
        <c:auto val="1"/>
        <c:lblAlgn val="ctr"/>
        <c:lblOffset val="100"/>
        <c:noMultiLvlLbl val="0"/>
      </c:catAx>
      <c:valAx>
        <c:axId val="67992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12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D7F-8B77-4660-AE4D-594A2E6A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129-D7CC-4160-9F59-42731468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D83-004C-493A-A485-8F23C7FA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919-1107-47AA-AB6B-0C5D71C1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2E3-9C26-4F5A-94DB-2A799C93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AF9-A2A6-4E74-AAF5-A07A0FD3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3F4-3C63-46EC-AC0B-295901E8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CF6-B6D0-47A0-9E2B-37D0B4D1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C7D-0CA7-4B71-9951-5E610FB4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E57-1FF4-4BD1-81B0-2F830062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482-B204-4E67-8D5A-545BFABB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954-4402-4C4C-854B-39EE87B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17E8F-028F-4945-98CC-624B0FDDC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