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504200"/>
        <c:axId val="50599357"/>
      </c:barChart>
      <c:catAx>
        <c:axId val="705042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599357"/>
        <c:crosses val="autoZero"/>
        <c:auto val="1"/>
        <c:lblAlgn val="ctr"/>
        <c:lblOffset val="100"/>
        <c:noMultiLvlLbl val="0"/>
      </c:catAx>
      <c:valAx>
        <c:axId val="505993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5042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A55C-31D7-4366-A54F-E7122248B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9328-1E5C-4C33-B92F-B4A4CDB2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10B8-F144-4BF2-AE99-243C762E6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5BFE-8F4D-49C5-A072-D799624A4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28FB-1A66-4E1E-8883-6498AB61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73CF-6B12-44EF-9D82-3C8F4F16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FD8C-C96D-422C-A330-87AFC413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A26C-A76E-42CB-9110-93BBF45E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CBD8-36D9-4E00-A538-F259F4A8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04C8-0C66-40CB-ACD8-2893F5E6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8D0E-E2BA-46D2-8D4A-FE2E95D4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EB18-7BB7-4030-8BEF-8B2F2DE3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06EAD0-721E-4723-9186-AD35727623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