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26209"/>
        <c:axId val="62970635"/>
      </c:barChart>
      <c:catAx>
        <c:axId val="23926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0635"/>
        <c:crosses val="autoZero"/>
        <c:auto val="1"/>
        <c:lblAlgn val="ctr"/>
        <c:lblOffset val="100"/>
        <c:noMultiLvlLbl val="0"/>
      </c:catAx>
      <c:valAx>
        <c:axId val="62970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26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6DB-AF69-4682-8B70-23186D2C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2C3-C5F2-4204-8500-22288339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6D3-90B9-4B08-A501-751BDFA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F0A-FA66-4503-A0CD-766210FF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451-7571-47FF-B89A-0CEDB064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D6C-42DC-412B-B798-A451F19F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451-F587-443B-A539-5AC18090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4BD-8FFA-4122-8434-9FD4CACC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B4F-B3BB-4C9D-997B-3705CE58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A4D-975B-4EC8-8DF7-5EC5C796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F6B-8490-430C-A15C-2564CA2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5F6-98A1-4203-934F-BD8CBA3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4C11F-684C-4670-9EAC-FD626139E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