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78418"/>
        <c:axId val="43130896"/>
      </c:barChart>
      <c:catAx>
        <c:axId val="91678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30896"/>
        <c:crosses val="autoZero"/>
        <c:auto val="1"/>
        <c:lblAlgn val="ctr"/>
        <c:lblOffset val="100"/>
        <c:noMultiLvlLbl val="0"/>
      </c:catAx>
      <c:valAx>
        <c:axId val="43130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78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EF2-A55C-436E-96FC-F0CF4D34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15F-44C3-4ED4-B348-B0ECAA01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351-8C9A-463C-BAF4-74E1E322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3A2-E580-4751-AD49-FD281C98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722-509F-4037-A9F0-6573B145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EAD-63CA-489D-A840-CA03E3D2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599-2665-4BC2-B386-C2747D8D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3EA-3D45-42B9-B9C1-DAE41ED5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847-123C-4A6A-836B-E3D52718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760-BAC0-442D-A526-A8E65323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889-B9D6-41B0-8A98-EF25A5C2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9AA-ACDB-4B88-BF6D-8880E314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6BDD4-53E5-426B-AF37-E63053716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