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813546"/>
        <c:axId val="92262634"/>
      </c:barChart>
      <c:catAx>
        <c:axId val="258135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62634"/>
        <c:crosses val="autoZero"/>
        <c:auto val="1"/>
        <c:lblAlgn val="ctr"/>
        <c:lblOffset val="100"/>
        <c:noMultiLvlLbl val="0"/>
      </c:catAx>
      <c:valAx>
        <c:axId val="922626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135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9A3E-904C-47E0-98E7-7A49A4708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7D75-68F5-4E19-83A3-80050EDC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1861-6EFA-427E-A85C-ACBF55766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37C3-BF96-4551-AD87-C231C6C82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8EED-D5F4-45DE-8456-573DD32B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A3E5-9432-4ADE-9AD3-A240FCD7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C001-46D1-4C2B-B08E-00562382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F363-9051-4770-9259-0F3572DE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22EE-2921-409B-B0C3-2432050A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1414-29DF-4D95-A5F0-52B2BE10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F107-BA5A-46E5-B308-2547E9D5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DA53-DE7F-49DB-99F6-756318CC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C006E-BC6D-4F67-A115-B208EF2E3F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