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540926"/>
        <c:axId val="72204391"/>
      </c:barChart>
      <c:catAx>
        <c:axId val="84540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04391"/>
        <c:crosses val="autoZero"/>
        <c:auto val="1"/>
        <c:lblAlgn val="ctr"/>
        <c:lblOffset val="100"/>
        <c:noMultiLvlLbl val="0"/>
      </c:catAx>
      <c:valAx>
        <c:axId val="722043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40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06FC-3DD4-45AC-AD30-0F4373266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EF59-50B3-498A-9C4B-BCF44B9C5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8D59-A47B-49C8-90D7-0C84BC7F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4256-72BB-4FF7-8905-19792025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48A3-668A-4A09-BE36-7164492E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40C-D8ED-4DAF-A1E8-BFE91C7D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575-B1BF-45FB-BCAC-257922F5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BCBE-05FE-4EA0-BD20-68D3F8481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BC3F-59F4-4056-AC36-8BF4D2BC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0CF-BF6B-466A-80D4-C8EF522E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E838-1D94-4FCA-A617-28D4B5EF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8F47-2D25-4195-911E-8CFE3A9B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453030-C0A4-4A0D-B187-EB3125DDA4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