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09055"/>
        <c:axId val="16584499"/>
      </c:barChart>
      <c:catAx>
        <c:axId val="863090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84499"/>
        <c:crosses val="autoZero"/>
        <c:auto val="1"/>
        <c:lblAlgn val="ctr"/>
        <c:lblOffset val="100"/>
        <c:noMultiLvlLbl val="0"/>
      </c:catAx>
      <c:valAx>
        <c:axId val="16584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090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E26-FD22-4091-845A-6193C64D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766-09A9-4CE0-B9D3-75C4423A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2B7-1A08-4A59-8AFB-4E8E4BF3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6F0-F240-487C-AD77-D0465450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7EA1-B921-4D50-87C3-7AE8B6BC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B16-DEBE-4FAE-A7DF-642EF772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CC6-AEB9-4671-9120-9EFD666B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FDC-13B5-4BC0-B490-CE4199E2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2AA-474C-4F46-82E5-68B31835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48F-C78F-4106-A5B1-3FB30C70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F32-4F59-4AE5-8790-5FD0D138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4BD-F60B-4BC1-A252-FDA65EC4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E6F57-8249-4990-986E-31E7A2F45F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