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059779"/>
        <c:axId val="74124866"/>
      </c:barChart>
      <c:catAx>
        <c:axId val="520597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24866"/>
        <c:crosses val="autoZero"/>
        <c:auto val="1"/>
        <c:lblAlgn val="ctr"/>
        <c:lblOffset val="100"/>
        <c:noMultiLvlLbl val="0"/>
      </c:catAx>
      <c:valAx>
        <c:axId val="741248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597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0A55-ADDD-40C3-B533-5E62ABF9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8E99-533B-487E-BE54-C4D5C41F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90B7-3DEB-427C-9708-E11A3435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757-9EC4-41A2-8B5D-146F4C89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2D7A-9076-4B10-A1B8-CC49FF06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7172-6788-41B2-BEF6-9002CF7D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4104-BCA0-4AD9-A7DE-179B542F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E56C-0301-4B9C-98E4-49329100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EE43-ECB3-4A1C-B773-4D75C7CE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4D28-3154-4172-8999-71E62BAB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CB69-6DDD-4399-9EA8-23C30CE8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133B-439B-48C5-AC54-DE66A1C5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76C6D-C809-4855-B53E-7CFFF59303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