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871233"/>
        <c:axId val="32712696"/>
      </c:barChart>
      <c:catAx>
        <c:axId val="878712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712696"/>
        <c:crosses val="autoZero"/>
        <c:auto val="1"/>
        <c:lblAlgn val="ctr"/>
        <c:lblOffset val="100"/>
        <c:noMultiLvlLbl val="0"/>
      </c:catAx>
      <c:valAx>
        <c:axId val="327126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8712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C146-8BE9-46B1-BF84-3E5E52A4C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10B2-DD0B-4A71-9D66-CBC9BB2A0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AA2E-AFAB-4946-9BB0-0CEB3B7F6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388A-EEDA-45B3-BB29-DC2ADEA3B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354C-E142-4769-8EE9-C8E1285F9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6F78-CFC9-4035-A4E3-A34B1FC09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0144-21FB-4891-988C-A23A6DC3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1EC4-A33D-404E-9252-0AAA4EC95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85E7-15D4-4FB8-9776-08A542760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9D5F-3525-43DA-AB4F-615FA2EF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B6C8-52B2-420A-AD70-ADF476B0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E82A-48EA-4ECF-A088-509329F1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82D572-AA32-48AC-93EE-17FD63B63AE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